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A5B-2683-4563-8B4C-F17B7C39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5D2-77DC-438A-A45F-F0D4A24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F28-466B-4F42-B3BA-DAE045A6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C31-6A56-46F3-888B-A4E491FB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FEF3-344E-4AFE-8CF2-DC9FA401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9E3-7428-48FE-A714-F9DC10A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25B0-C550-49E5-8CED-D4B8C23C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2C12-76AF-45A1-A537-14858DCB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026-C6A8-4483-90E7-9F9BEA4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5EC-287D-44B0-9978-2918CB65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8DF1-6D5E-42B0-90D6-E40781C3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25C-9DA2-4B17-859C-0E570012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826-16E7-4584-875B-A581931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887C-E2EF-4170-824C-09CCEC4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015-B3BC-45A9-907B-D3BD4F7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80B-3504-4B77-89C5-C07DC07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D614-394E-434E-A516-3108322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71E-D6C5-4F15-9139-53D06AF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0F3-B7E2-41D6-A045-433E4A5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12E-57FA-4678-B91D-AC59C9F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39E-3CB0-45F4-8A9A-F6DE660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B92-26CC-4F93-BEAA-14365CC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404-47AE-4C6E-B40D-2BD966C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03B-C99A-417F-BB5D-F32473E8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BD7-ACB4-4565-878D-98E6F7713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0E5-76C2-4612-A529-442FB0FC3224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imes New Roman"/>
              </a:rPr>
              <a:t>Natural Selection and Evolution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Times New Roman"/>
              </a:rPr>
              <a:t>Learning Targets and Success Criteria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understand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the various aspects of Natural Selection and its impact on a specie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when I can explain the four parts of Darwin’s Natural Selection and the role that each plays in evolution and the continuation of a specie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685800" y="5335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atural Selection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600" spc="-1" strike="noStrike" u="sng">
                <a:solidFill>
                  <a:srgbClr val="8383ad"/>
                </a:solidFill>
                <a:uFillTx/>
                <a:latin typeface="Times New Roman"/>
              </a:rPr>
              <a:t>recognize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 that variation exists in a population and may help or hinder an organism’s ability to survive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I am successful when I can identify specific adaptations that can affect an organism’s survival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685800" y="533520"/>
            <a:ext cx="5638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aptations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can use anatomical structure to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compare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infer relationships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between organism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if I can provide 3 pieces of evidence to explain how some trilobites might be more closely related than the rest of the group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685800" y="5335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cestry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recognize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that extinction is a common event that occurs when a species cannot adapt to their changing environment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if I can provide an example of an extinct species and explain why it became extinct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WordArt 5"/>
          <p:cNvSpPr txBox="1"/>
          <p:nvPr/>
        </p:nvSpPr>
        <p:spPr>
          <a:xfrm>
            <a:off x="685800" y="5335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tinction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06:25Z</dcterms:created>
  <dc:creator>ELemke</dc:creator>
  <dc:description/>
  <dc:language>en-US</dc:language>
  <cp:lastModifiedBy>Kevin Hill</cp:lastModifiedBy>
  <dcterms:modified xsi:type="dcterms:W3CDTF">2012-01-30T00:26:23Z</dcterms:modified>
  <cp:revision>6</cp:revision>
  <dc:subject/>
  <dc:title>Natural Selection and Evolution Learning Targets and Success Criteria</dc:title>
</cp:coreProperties>
</file>